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9D7-753C-45B7-AC1C-2B509DA9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867-65F3-4B7C-BC3D-6AE1E570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B58B-E1A9-458C-90FD-AC7F9FCD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084-8881-47D6-B4CE-2427DC2C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AA4A-6E20-428D-83A4-77E083ED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44AA-CF89-458F-98CA-DF248671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045C-F44C-465D-8A0F-7EA68EA1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8EA1-87F2-4419-A631-6F9D6D0A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1FB9-F9D6-4C15-B363-2FF13718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5F49-8607-4BE6-A2E8-CCC67D9E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6443-7E0D-4EC0-B927-486444F3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0EF7-A6CE-4AAB-B11B-25B72248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05D0-5EE2-43E7-B66C-C9580AC8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AC85-F19F-4D33-86D0-D0BF53BB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F53D-8ECA-425F-8CEE-658D2A90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1D73-013C-4B44-AFE7-17EEA730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2426-5761-4527-BBB9-749327FB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015-D611-4945-AC47-656EBBB0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BD9-1416-4CB1-BD61-6751F500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76B-D307-4638-944C-1CE579B7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CDC-7118-43C3-8F2B-45281616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B6B-A8BE-4E9F-9A84-5A54E8B0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F70E-2523-4B4D-957B-7E21F91C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282-C1C8-4831-A0F6-FE4E265A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1EC8-1707-46E0-B3BE-F3931EB74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51CB-C150-43EB-9DB7-E7B60FA160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06480" y="17524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 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438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916280" y="3168720"/>
            <a:ext cx="49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ing clue for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surpri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875240" y="3168720"/>
            <a:ext cx="38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wo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’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two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’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523880" y="2971800"/>
            <a:ext cx="649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 games played between classes intramural or innermura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902240" y="3168720"/>
            <a:ext cx="22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amura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889280" y="3168720"/>
            <a:ext cx="58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Respectfully/respectively) is each in the order indic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904400" y="316872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ective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889280" y="3168720"/>
            <a:ext cx="63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n ampersand and when are they not us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910880" y="3168720"/>
            <a:ext cx="38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amp;, in formal wr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889280" y="316872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eminent/imminent) threatening to occur so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900800" y="316872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min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3355560" y="312408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 lo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lo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889280" y="3168720"/>
            <a:ext cx="53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me words that can be used in place of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boughten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889280" y="3168720"/>
            <a:ext cx="45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ore-bought, ready-made, commercial, etc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889280" y="3168720"/>
            <a:ext cx="573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void using what in place of since or becau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2616120" y="3276720"/>
            <a:ext cx="45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ing as and being th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889280" y="3168720"/>
            <a:ext cx="48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root word of mischievou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899720" y="3168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chie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902240" y="3168720"/>
            <a:ext cx="557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voi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lik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f what follows 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887480" y="316872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claus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889280" y="316872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a hyphen needed if the word is compou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893240" y="3168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3804120" y="31240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lo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889280" y="316872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void would have in _____ claus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4118760" y="3276720"/>
            <a:ext cx="5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2618280" y="3200400"/>
            <a:ext cx="519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spicion is a (noun/verb)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895760" y="3168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922400" y="3168720"/>
            <a:ext cx="618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mory clue for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goo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889280" y="31687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mething may BE good, but it is DONE we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922040" y="3168720"/>
            <a:ext cx="60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 examples of a palindro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889280" y="3168720"/>
            <a:ext cx="30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991, Hannah, m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907280" y="3168720"/>
            <a:ext cx="32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y t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y a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890000" y="31687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917000" y="3168720"/>
            <a:ext cx="50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ing clue for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busines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628280" y="3200400"/>
            <a:ext cx="52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mory clue for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lose/lo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889280" y="316872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nk of the extr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s extra freedo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918440" y="3168720"/>
            <a:ext cx="62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don’t you use a quota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911240" y="3168720"/>
            <a:ext cx="38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n indirect quo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889280" y="3168720"/>
            <a:ext cx="474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make vowel ending words plura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889280" y="3168720"/>
            <a:ext cx="5045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ding –es. Ex) potatoe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ption: in music. Ex) so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952560" y="3124080"/>
            <a:ext cx="71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should numbers be spelled ou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891080" y="316872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wo words or l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920240" y="3168720"/>
            <a:ext cx="57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h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hom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refer to wh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897920" y="316872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913040" y="3168720"/>
            <a:ext cx="45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de 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bu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o 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busin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889280" y="3168720"/>
            <a:ext cx="405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i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high school, senior, bank, river,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etc. capitaliz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889280" y="316872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part of or in place of proper nou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917720" y="3168720"/>
            <a:ext cx="501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ing clue for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emet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2829960" y="3048120"/>
            <a:ext cx="41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re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’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s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ee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917360" y="3168720"/>
            <a:ext cx="503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ing clue for separ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889280" y="3168720"/>
            <a:ext cx="39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 ra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35</cp:lastModifiedBy>
  <dcterms:modified xsi:type="dcterms:W3CDTF">2010-05-18T19:52:10Z</dcterms:modified>
  <cp:revision>21</cp:revision>
  <dc:subject/>
  <dc:title>Jeopardy</dc:title>
</cp:coreProperties>
</file>